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E8F889-C5E7-456A-A920-BC56A25DBC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DDA130-6867-4532-A20D-8AD16411D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59E2B7-7984-41F0-946F-EF10EE81C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79A4-5F9E-4880-9B6A-32DEA2A19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D54E-0610-42B7-8705-09AF8601C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ACE731-DDD9-439A-8FE5-2C69EDA4B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31D39A-51AE-434F-86D0-8509C3646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0A368C-CD5F-4D43-8511-CC643992E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5F148E-24D9-4D0C-8780-00BC8594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172844-9C09-45DE-910B-5BC42645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633CEF-4E0F-472A-8628-8C08165A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BBB10C-83D7-4B7F-A1A9-ACE943043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CDE654-B1BB-48AB-ACEF-B4AE687B2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2337B7-1490-424F-B6E9-A1E305459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DA8268-D254-44B3-989F-EB32EBE04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4165-10C0-440D-9096-DDF725B00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E14575-211D-439C-8995-D5F537F5C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43326D-60BF-4C97-B00A-5F0C87909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6B9DC2-AC5A-4CFF-AF09-1712A5C21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6C1F99-3BD0-4503-944B-54AF4A43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3AEAEE-336B-4FBE-9369-8E0F5414E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852D78-BBBE-4F1B-A2E5-54591717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920E80-95D2-4012-A011-6773EAC8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62528B-C4C0-40CB-A857-852CB712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4F5DDB-887A-4D77-BB3C-2D9AA05E9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AE5E15-63E8-405E-ACAD-79FEF5006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5A80-2908-4DB2-9F19-A4E830216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FE371C-F0BD-4401-B245-3D489982C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DBEBC4-0E04-4E3B-A121-D0E3CA1EF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E926CF-D39B-4C63-AE80-B93EBEF11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A9918B-2A0E-4CB3-9140-12A498D98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A7CA9B-74BF-4C65-8758-6EE17EBF1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4FE78F-03A4-4FA7-8ECD-DAA692C3B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04ABDB-7449-4FF2-964E-DB49E112C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D35098-B431-4B6D-9045-2503C5F1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F16B14-30E4-45B2-B837-E2905A0A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33BAC7-1063-4034-84C2-DD6C28FB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89309-8635-41F5-A5F7-E6AE6B36F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386A32-BE00-4632-82CF-FB5C43339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67AE62-8C29-4D58-8A8D-D5B2E87CA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95898B-7BCF-43FB-989B-03FAB59DE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D11DEC-824C-4419-A8CE-D111DB3F6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76C4EC-1340-4EA9-8378-D4D4DAF65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33424A-E5C0-4F1A-A217-3CD742E12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60175B-6BC5-428C-A395-3DB776386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649471-594D-4725-A8F0-23B883BAF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696947-97DE-4C10-B01D-570D86BB0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07D090-2ED1-454A-8BF0-C9412907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28D0E-0A43-49F7-8304-8A59AA779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805D34-C382-47C7-8E1A-FAB0043E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1B8897-6E9F-4FAE-ABF9-1BB72CBB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BA9E43-755C-4475-992E-A90CCD207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DB5578-7B0A-49B7-87B3-D7BEC6C58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068FD3-C4BB-49A5-8387-DE053336C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09D670-3D51-4222-BDF3-DA608DB47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CB59E6-77EE-4351-A2F9-753D76F28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4E81DB-A3B0-4920-B115-182244C2E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92ED1C-2E50-4A41-86A3-FBA3BC3C2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730980-0ADB-446E-93A5-D20148414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2CA43-1AD1-4BD7-87CA-100729820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8ACC4A-5B56-4F62-B71F-ABDB9A510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B1BCCB-4510-4B12-8CD2-79089268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8035B1-CBEB-42EE-BA3E-255EEE4B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7B0222-537D-4E38-8AE5-1AA5EB50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69C68A-9F61-45A1-AF15-B12C35F69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83F6F5-1B64-4259-85EF-CEE562379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7D3F32-011C-4EEA-A840-2816E33FE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7B8C5D-F32E-42D4-A049-EAFAA714B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4E222C-68D1-4A23-BD78-FBDC1305D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052265-5552-4F05-9FA4-D53AE17C2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DB62D-DB18-4737-B0CB-521B67F2A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B26FEC-DDB9-445C-BBD1-F53AAB317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58E93B-36E6-4584-9B04-92CAFE3C2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39B207-30A8-4292-A970-65FFF1BD7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AABC39-D850-4822-8433-3016CB93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B26ADE-95DC-417C-B503-0AAEEAC7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B26320-3B08-4D6E-9DDB-AB061B9F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6835BC-2F81-433A-A0B1-C95EBCD83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FA051C-1DE6-4970-8FAE-A17065657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A87A62-D3CA-415F-A7DD-555B23D5D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411495-BBB3-4EFA-BEF6-A0508B50B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45D7C-1768-4921-A484-CE5BA1E02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0E8EA4-9ABF-4487-A923-488353ED1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8EEBC7-B699-41A1-A284-BA3B8493C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C91C34-396B-4458-BC71-2E43D5E34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2515EC-4CE1-4B5D-B168-677E33389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1A0926-1A86-4CA0-9A24-CC0DFDF42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AECAE0-ED0C-4D46-8418-2962C5EC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1DB44E-4205-4A9A-B12F-CAC44BD9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5A5214-8F50-4BB6-82EA-A4BDE00E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120262-AB56-421B-A14A-EDB12B447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4104AC-21EB-4B48-945C-CCA034771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4091B-479D-416B-B1EF-97F408782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97909B-AB22-46CE-9478-5F2A9C8B0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F5CE9F-C340-4A83-B8A6-C73F9C48C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A30E45-0A1C-434F-AEDA-24483E0D6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D56E65-5F8D-4527-9C4E-265CC146A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6AE0DC-FD5F-4032-BE00-370588B52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D776CC-9721-4134-A5DE-3C066953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9418F0-0DEB-4B16-9C41-467F8AAE1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C746D3-C434-410B-9B71-58D6D8C2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7E4DF3-2144-47C8-9C1B-B3CA6D38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DA2832-9EE2-4C08-A95C-87426B65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34067-17D5-440F-8341-F6F13314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6602EA-CC65-4831-BD1D-7AE8328B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C7723C-27BC-49DC-92AC-9B7D5CFFE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1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2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FE8E07-91EA-4DD2-9558-70C1469BA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305CF7-F5EB-4BB5-BA55-EB02C96A7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F65312-C21E-4EB4-806F-0D2482883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3610D2-4803-4580-9214-6718B70B2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6D23F2-94CD-4683-80FC-B4B0BE1CB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A4F882-330E-4317-BA75-1CABAE116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1812FB-B95B-4AB3-BDBA-09FEECB56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E55CFD-9B9A-416E-9250-10AEC064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4EAA-940E-4DEE-A6AD-7B0566F9D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46143-59E0-4F11-B21A-D4527D4A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975E99-3294-455D-8CF2-F3BFC611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706F5D-8B8F-485C-83BD-9718798D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62F655-0A1E-4D1A-AFC0-292655B7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503B45-5DC2-4A98-B43D-D0243C793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12E487-BF59-4423-B299-35B9A9AF0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8959C-C102-420C-8C6F-70ABF441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21293-5E1C-445C-B78D-A87FAD31F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64C9B-3ADE-4176-AA9B-7A16841C1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7CD22-DA97-40B5-AC3A-90DBAA234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81767-3EDD-4E99-B77A-CD42DABE4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D0790-788D-406B-81E9-E1802BFD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DF7D3-E95D-424D-BDC0-D78B984F9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2BAB0-A52D-4179-9F26-60C2C42FD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70DB3-4A61-4843-8ABB-5B98F8607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0D33-3BAF-4A24-8C5F-12C8A9679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3C7CE-8DA5-41ED-8ED0-A784F42FB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574B5-A800-45FF-89E9-4570ECAB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12DCD-C42B-48E4-97B0-D2FB0C1E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274F2-3364-4856-85E5-A48541F4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4C630-02E8-44E0-A2FA-06E915D0C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88BB0-CF9D-44C2-94C9-BD95E5191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AFDFE-BC61-4258-A108-BEF65B060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C5D1F-1840-44A4-B089-804E31C60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A69E2-F724-4697-823D-9908E7038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4E1B5-CDE4-4D3E-8BC0-95F345022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CEDE-83BF-4DB5-89E0-C714D48C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E51C9-C657-4144-A6E7-DE3BCDC7E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3A7D2-C2B3-48BE-8AA3-35C55E27A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684E1-61F9-4C02-9917-FF9C0E58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B6B5A-3F98-447B-B001-2A241DE4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8E7CB-D360-4341-9C88-EAC655FAF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96EE7-6F27-46EC-9217-2845B2AE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62A66-CC25-4455-A3EF-BA130EF28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B4B08-FE92-4E0A-85E8-8F3D50503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BF8CC-1A75-49FE-B0CF-EA7910C00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552D1-70E0-4C48-90D8-ED370FBF5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FABF-2D88-49EA-AE9B-A65857EF5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D87D5-9FB8-4A27-8301-324731021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1E738-5881-4102-8C20-523053CEE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AE186-E791-400E-AA8B-30069E83E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85B06-889D-48BC-B994-EE742F8AD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7C449-4F1E-40FA-9AD3-BB2C3098A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7BB41-0FCA-46BA-BD9B-5659A1BF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6E15B-B993-4090-8FC7-F54B0DE0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975DD-C241-4941-9A94-EB6B9EB9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DF317-1A28-435F-A9A4-A4C8FDA0E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7C062-4A99-4946-8415-3754E142D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9B54-A559-444B-B93D-82E9DDDBE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4933B-C2D4-4F20-9FC5-36325ACDA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3C8E5-B103-4AE9-9434-5CEF973CD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11C2A-0E96-46BD-BC68-CBEBB742E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B8098-3D40-4496-A919-DD4408B74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99527-AD73-4129-8FE2-53B2FA43A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D0ADE6-7489-4435-9927-22C3F6705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483F1-EF42-46CD-84FB-A2AE4EC69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E36BC-C556-4EE2-9DD1-4FE245F0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D8EB6B-A12D-4218-A858-5258A961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95F6D-586C-4A90-B84D-88E1A81F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9B83-555D-47FF-B2FB-20C3520F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E1981-36BA-46C2-9995-105389E92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7F8A52-98F0-4EC6-A90E-07E9FD146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E42318-95B2-4A96-8F42-540539B43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0B3BC9-847B-4362-8DDA-53F754143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846D10-E0BA-4696-8159-04296E360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B37D64-104D-42FB-B250-2CD228BF2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2F3A2-5793-46A5-8214-07AAA9325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EBDF9-0EEF-45F0-9925-76E5CDAC1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2C2563-5925-4439-A531-781F29561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B39C2A-DDF3-4CFF-AD85-7FC0178D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2E6F-AA35-4701-B435-678B455C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24741-76D3-4535-85A7-64B7A751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D02812-3369-405C-A2F6-436A05AA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18B18C-DBBE-4CD9-A763-8CD4F3FBB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AB7EF9-1457-47B9-AFE4-7AD5A9B0C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EBDA00-7881-4821-8896-2DFCDFED1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168B87-B285-4642-BCA0-80EBF6BD1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4CFD98-D98B-41FC-B74F-4B1E9C7E8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E8A040-824C-463E-8D01-29E74EF5E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584226-F397-4273-963D-BC12D194D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1DC554-85B1-4BE2-9A7D-CB3DCAA82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041D-18FD-4D96-9931-F6F6EADA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B4F4BF-432E-47F8-9522-32AA9B148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597AFD-0003-40E2-907A-6C9322B5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77B499-31FD-4420-B9D4-210BCF7D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231C28-71CC-4E76-947F-0D831435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5772A5-71AF-4B6C-8B4A-DC4C0A906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E8A431-3ADE-4AEA-BF90-761992B9E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FDB818-76F4-4BC8-8575-76A65F69D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92D6AE-5C5D-4656-B54A-0EE23ED4E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947C89-8231-4C1C-9FD2-76B60E12F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612543-CF0B-4941-9188-CAE220B2A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ED66E8-660E-489D-8AFE-E95B11CB1B2C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003633-F63B-4545-829F-275875E19349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Group 6"/>
          <p:cNvGrpSpPr/>
          <p:nvPr/>
        </p:nvGrpSpPr>
        <p:grpSpPr>
          <a:xfrm>
            <a:off x="284040" y="452520"/>
            <a:ext cx="8575920" cy="137880"/>
            <a:chOff x="284040" y="452520"/>
            <a:chExt cx="8575920" cy="137880"/>
          </a:xfrm>
        </p:grpSpPr>
        <p:sp>
          <p:nvSpPr>
            <p:cNvPr id="415" name="Rectangle 7"/>
            <p:cNvSpPr/>
            <p:nvPr/>
          </p:nvSpPr>
          <p:spPr>
            <a:xfrm>
              <a:off x="284040" y="452520"/>
              <a:ext cx="1600200" cy="137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8"/>
            <p:cNvSpPr/>
            <p:nvPr/>
          </p:nvSpPr>
          <p:spPr>
            <a:xfrm>
              <a:off x="1884240" y="452520"/>
              <a:ext cx="2743200" cy="1378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9"/>
            <p:cNvSpPr/>
            <p:nvPr/>
          </p:nvSpPr>
          <p:spPr>
            <a:xfrm>
              <a:off x="4626000" y="452520"/>
              <a:ext cx="4233960" cy="1378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8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B73908-B8EE-4FBB-8D6A-A04E64472A7E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9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0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3923A9-DC6F-4175-B293-18C99CFA6463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Group 6"/>
          <p:cNvGrpSpPr/>
          <p:nvPr/>
        </p:nvGrpSpPr>
        <p:grpSpPr>
          <a:xfrm>
            <a:off x="284040" y="452520"/>
            <a:ext cx="8575920" cy="137880"/>
            <a:chOff x="284040" y="452520"/>
            <a:chExt cx="8575920" cy="137880"/>
          </a:xfrm>
        </p:grpSpPr>
        <p:sp>
          <p:nvSpPr>
            <p:cNvPr id="460" name="Rectangle 7"/>
            <p:cNvSpPr/>
            <p:nvPr/>
          </p:nvSpPr>
          <p:spPr>
            <a:xfrm>
              <a:off x="284040" y="452520"/>
              <a:ext cx="1600200" cy="137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8"/>
            <p:cNvSpPr/>
            <p:nvPr/>
          </p:nvSpPr>
          <p:spPr>
            <a:xfrm>
              <a:off x="1884240" y="452520"/>
              <a:ext cx="2743200" cy="1378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9"/>
            <p:cNvSpPr/>
            <p:nvPr/>
          </p:nvSpPr>
          <p:spPr>
            <a:xfrm>
              <a:off x="4626000" y="452520"/>
              <a:ext cx="4233960" cy="1378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1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B1BF6F-8414-4650-BBF7-69F2457ACC29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2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3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FC08CE-9972-46F7-B032-C36FB0752DC3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6"/>
          <p:cNvSpPr/>
          <p:nvPr/>
        </p:nvSpPr>
        <p:spPr>
          <a:xfrm>
            <a:off x="284040" y="480204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Group 7"/>
          <p:cNvGrpSpPr/>
          <p:nvPr/>
        </p:nvGrpSpPr>
        <p:grpSpPr>
          <a:xfrm>
            <a:off x="284040" y="6262560"/>
            <a:ext cx="8575920" cy="138240"/>
            <a:chOff x="284040" y="6262560"/>
            <a:chExt cx="8575920" cy="138240"/>
          </a:xfrm>
        </p:grpSpPr>
        <p:sp>
          <p:nvSpPr>
            <p:cNvPr id="506" name="Rectangle 8"/>
            <p:cNvSpPr/>
            <p:nvPr/>
          </p:nvSpPr>
          <p:spPr>
            <a:xfrm>
              <a:off x="284040" y="6262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ectangle 9"/>
            <p:cNvSpPr/>
            <p:nvPr/>
          </p:nvSpPr>
          <p:spPr>
            <a:xfrm>
              <a:off x="3025800" y="6262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Rectangle 10"/>
            <p:cNvSpPr/>
            <p:nvPr/>
          </p:nvSpPr>
          <p:spPr>
            <a:xfrm>
              <a:off x="4626000" y="6262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34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52C54A-1336-4C61-BFE7-471B9254991B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35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6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8A1864-B173-4314-8E13-91F99A2E5D91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Group 8"/>
          <p:cNvGrpSpPr/>
          <p:nvPr/>
        </p:nvGrpSpPr>
        <p:grpSpPr>
          <a:xfrm>
            <a:off x="284040" y="4280040"/>
            <a:ext cx="8575920" cy="137880"/>
            <a:chOff x="284040" y="4280040"/>
            <a:chExt cx="8575920" cy="137880"/>
          </a:xfrm>
        </p:grpSpPr>
        <p:sp>
          <p:nvSpPr>
            <p:cNvPr id="551" name="Rectangle 7"/>
            <p:cNvSpPr/>
            <p:nvPr/>
          </p:nvSpPr>
          <p:spPr>
            <a:xfrm>
              <a:off x="284040" y="4280040"/>
              <a:ext cx="2743200" cy="137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8"/>
            <p:cNvSpPr/>
            <p:nvPr/>
          </p:nvSpPr>
          <p:spPr>
            <a:xfrm>
              <a:off x="3025800" y="4280040"/>
              <a:ext cx="1600200" cy="1378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9"/>
            <p:cNvSpPr/>
            <p:nvPr/>
          </p:nvSpPr>
          <p:spPr>
            <a:xfrm>
              <a:off x="4626000" y="4280040"/>
              <a:ext cx="4233960" cy="1378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7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DD8BAD-8EC7-4F63-A951-D4B75E868B0D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8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9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7BFE24-8E38-41C6-B3CA-D705F501706B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6"/>
          <p:cNvSpPr/>
          <p:nvPr/>
        </p:nvSpPr>
        <p:spPr>
          <a:xfrm>
            <a:off x="284040" y="4267080"/>
            <a:ext cx="2743200" cy="212112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Group 14"/>
          <p:cNvGrpSpPr/>
          <p:nvPr/>
        </p:nvGrpSpPr>
        <p:grpSpPr>
          <a:xfrm>
            <a:off x="284040" y="461880"/>
            <a:ext cx="8575920" cy="136440"/>
            <a:chOff x="284040" y="461880"/>
            <a:chExt cx="8575920" cy="136440"/>
          </a:xfrm>
        </p:grpSpPr>
        <p:sp>
          <p:nvSpPr>
            <p:cNvPr id="597" name="Rectangle 8"/>
            <p:cNvSpPr/>
            <p:nvPr/>
          </p:nvSpPr>
          <p:spPr>
            <a:xfrm>
              <a:off x="284040" y="461880"/>
              <a:ext cx="2743200" cy="1364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ectangle 9"/>
            <p:cNvSpPr/>
            <p:nvPr/>
          </p:nvSpPr>
          <p:spPr>
            <a:xfrm>
              <a:off x="3025800" y="461880"/>
              <a:ext cx="1600200" cy="1364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ectangle 10"/>
            <p:cNvSpPr/>
            <p:nvPr/>
          </p:nvSpPr>
          <p:spPr>
            <a:xfrm>
              <a:off x="4626000" y="461880"/>
              <a:ext cx="4233960" cy="136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dt" idx="40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0C76BE-2400-44A1-A2CD-D1CF921FC892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41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sldNum" idx="42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E3B2CD-3C69-4230-B428-D2D92D4318B0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6"/>
          <p:cNvSpPr/>
          <p:nvPr/>
        </p:nvSpPr>
        <p:spPr>
          <a:xfrm>
            <a:off x="3021120" y="4802040"/>
            <a:ext cx="583704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Group 7"/>
          <p:cNvGrpSpPr/>
          <p:nvPr/>
        </p:nvGrpSpPr>
        <p:grpSpPr>
          <a:xfrm>
            <a:off x="284040" y="6262560"/>
            <a:ext cx="8575920" cy="138240"/>
            <a:chOff x="284040" y="6262560"/>
            <a:chExt cx="8575920" cy="138240"/>
          </a:xfrm>
        </p:grpSpPr>
        <p:sp>
          <p:nvSpPr>
            <p:cNvPr id="643" name="Rectangle 8"/>
            <p:cNvSpPr/>
            <p:nvPr/>
          </p:nvSpPr>
          <p:spPr>
            <a:xfrm>
              <a:off x="284040" y="6262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9"/>
            <p:cNvSpPr/>
            <p:nvPr/>
          </p:nvSpPr>
          <p:spPr>
            <a:xfrm>
              <a:off x="3025800" y="6262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10"/>
            <p:cNvSpPr/>
            <p:nvPr/>
          </p:nvSpPr>
          <p:spPr>
            <a:xfrm>
              <a:off x="4626000" y="6262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43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25E3F8-2AF7-4489-B781-288AC3421058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44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45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130737-AD54-4861-9222-FC4B2247BC3E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689" name="Rectangle 8"/>
            <p:cNvSpPr/>
            <p:nvPr/>
          </p:nvSpPr>
          <p:spPr>
            <a:xfrm>
              <a:off x="284040" y="1577880"/>
              <a:ext cx="160020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Rectangle 9"/>
            <p:cNvSpPr/>
            <p:nvPr/>
          </p:nvSpPr>
          <p:spPr>
            <a:xfrm>
              <a:off x="1884240" y="1577880"/>
              <a:ext cx="274320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Rectangle 10"/>
            <p:cNvSpPr/>
            <p:nvPr/>
          </p:nvSpPr>
          <p:spPr>
            <a:xfrm>
              <a:off x="4626000" y="1577880"/>
              <a:ext cx="423396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2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 type="dt" idx="46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EE8CB0-3D5B-44D2-8B25-7153705373ED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 type="ftr" idx="47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 type="sldNum" idx="48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BCD0B5-503B-4136-8D09-D5D7F118CB1A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6"/>
          <p:cNvSpPr/>
          <p:nvPr/>
        </p:nvSpPr>
        <p:spPr>
          <a:xfrm rot="5400000">
            <a:off x="5313600" y="2856600"/>
            <a:ext cx="5934240" cy="11350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4" name="Group 7"/>
          <p:cNvGrpSpPr/>
          <p:nvPr/>
        </p:nvGrpSpPr>
        <p:grpSpPr>
          <a:xfrm>
            <a:off x="7556400" y="457200"/>
            <a:ext cx="138240" cy="5934240"/>
            <a:chOff x="7556400" y="457200"/>
            <a:chExt cx="138240" cy="5934240"/>
          </a:xfrm>
        </p:grpSpPr>
        <p:sp>
          <p:nvSpPr>
            <p:cNvPr id="735" name="Rectangle 8"/>
            <p:cNvSpPr/>
            <p:nvPr/>
          </p:nvSpPr>
          <p:spPr>
            <a:xfrm rot="5400000">
              <a:off x="7072200" y="941040"/>
              <a:ext cx="110628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Rectangle 9"/>
            <p:cNvSpPr/>
            <p:nvPr/>
          </p:nvSpPr>
          <p:spPr>
            <a:xfrm rot="5400000">
              <a:off x="6676920" y="2444760"/>
              <a:ext cx="1897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10"/>
            <p:cNvSpPr/>
            <p:nvPr/>
          </p:nvSpPr>
          <p:spPr>
            <a:xfrm rot="5400000">
              <a:off x="6161040" y="4857840"/>
              <a:ext cx="2928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49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E5BF66-728D-4A0F-8F6D-C21A5BF707ED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0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1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C7BEA4-C702-487B-B981-FD657CD12156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284040" y="44460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16"/>
          <p:cNvGrpSpPr/>
          <p:nvPr/>
        </p:nvGrpSpPr>
        <p:grpSpPr>
          <a:xfrm>
            <a:off x="284040" y="1906560"/>
            <a:ext cx="8575920" cy="138240"/>
            <a:chOff x="284040" y="1906560"/>
            <a:chExt cx="8575920" cy="138240"/>
          </a:xfrm>
        </p:grpSpPr>
        <p:sp>
          <p:nvSpPr>
            <p:cNvPr id="43" name="Rectangle 8"/>
            <p:cNvSpPr/>
            <p:nvPr/>
          </p:nvSpPr>
          <p:spPr>
            <a:xfrm>
              <a:off x="284040" y="1906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9"/>
            <p:cNvSpPr/>
            <p:nvPr/>
          </p:nvSpPr>
          <p:spPr>
            <a:xfrm>
              <a:off x="3025800" y="1906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10"/>
            <p:cNvSpPr/>
            <p:nvPr/>
          </p:nvSpPr>
          <p:spPr>
            <a:xfrm>
              <a:off x="4626000" y="1906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TextBox 11"/>
          <p:cNvSpPr/>
          <p:nvPr/>
        </p:nvSpPr>
        <p:spPr>
          <a:xfrm>
            <a:off x="8205840" y="4446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284040" y="6227640"/>
            <a:ext cx="8574120" cy="17316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810024-2B0F-45B0-A430-960CF0E8A4F6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7C3F0D-2FB3-4CC3-AEDC-F55A88818DCA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91" name="Rectangle 8"/>
            <p:cNvSpPr/>
            <p:nvPr/>
          </p:nvSpPr>
          <p:spPr>
            <a:xfrm>
              <a:off x="284040" y="1577880"/>
              <a:ext cx="160020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9"/>
            <p:cNvSpPr/>
            <p:nvPr/>
          </p:nvSpPr>
          <p:spPr>
            <a:xfrm>
              <a:off x="1884240" y="1577880"/>
              <a:ext cx="274320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0"/>
            <p:cNvSpPr/>
            <p:nvPr/>
          </p:nvSpPr>
          <p:spPr>
            <a:xfrm>
              <a:off x="4626000" y="1577880"/>
              <a:ext cx="423396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C6D226-F7C4-4020-8E1E-A3DA23129746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D41305-DCE1-4679-8EC7-20F19918BEEC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284040" y="44460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16"/>
          <p:cNvGrpSpPr/>
          <p:nvPr/>
        </p:nvGrpSpPr>
        <p:grpSpPr>
          <a:xfrm>
            <a:off x="284040" y="1906560"/>
            <a:ext cx="8575920" cy="138240"/>
            <a:chOff x="284040" y="1906560"/>
            <a:chExt cx="8575920" cy="138240"/>
          </a:xfrm>
        </p:grpSpPr>
        <p:sp>
          <p:nvSpPr>
            <p:cNvPr id="137" name="Rectangle 8"/>
            <p:cNvSpPr/>
            <p:nvPr/>
          </p:nvSpPr>
          <p:spPr>
            <a:xfrm>
              <a:off x="284040" y="1906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9"/>
            <p:cNvSpPr/>
            <p:nvPr/>
          </p:nvSpPr>
          <p:spPr>
            <a:xfrm>
              <a:off x="3025800" y="1906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0"/>
            <p:cNvSpPr/>
            <p:nvPr/>
          </p:nvSpPr>
          <p:spPr>
            <a:xfrm>
              <a:off x="4626000" y="1906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TextBox 11"/>
          <p:cNvSpPr/>
          <p:nvPr/>
        </p:nvSpPr>
        <p:spPr>
          <a:xfrm>
            <a:off x="8205840" y="4446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34984F-F616-4BDD-845B-67D42257E73B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57E8B2-BBB6-45B8-9427-85D5BAFC3166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284040" y="480204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7"/>
          <p:cNvGrpSpPr/>
          <p:nvPr/>
        </p:nvGrpSpPr>
        <p:grpSpPr>
          <a:xfrm>
            <a:off x="284040" y="6262560"/>
            <a:ext cx="8575920" cy="138240"/>
            <a:chOff x="284040" y="6262560"/>
            <a:chExt cx="8575920" cy="138240"/>
          </a:xfrm>
        </p:grpSpPr>
        <p:sp>
          <p:nvSpPr>
            <p:cNvPr id="184" name="Rectangle 8"/>
            <p:cNvSpPr/>
            <p:nvPr/>
          </p:nvSpPr>
          <p:spPr>
            <a:xfrm>
              <a:off x="284040" y="6262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9"/>
            <p:cNvSpPr/>
            <p:nvPr/>
          </p:nvSpPr>
          <p:spPr>
            <a:xfrm>
              <a:off x="3025800" y="6262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0"/>
            <p:cNvSpPr/>
            <p:nvPr/>
          </p:nvSpPr>
          <p:spPr>
            <a:xfrm>
              <a:off x="4626000" y="6262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Box 11"/>
          <p:cNvSpPr/>
          <p:nvPr/>
        </p:nvSpPr>
        <p:spPr>
          <a:xfrm>
            <a:off x="8205840" y="48020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9C6BEB-168B-4314-BFF9-55FCF63F8EDF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B0AFC5-2931-42CF-BA64-51908FA47FB6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284040" y="480204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7"/>
          <p:cNvGrpSpPr/>
          <p:nvPr/>
        </p:nvGrpSpPr>
        <p:grpSpPr>
          <a:xfrm>
            <a:off x="284040" y="6262560"/>
            <a:ext cx="8575920" cy="138240"/>
            <a:chOff x="284040" y="6262560"/>
            <a:chExt cx="8575920" cy="138240"/>
          </a:xfrm>
        </p:grpSpPr>
        <p:sp>
          <p:nvSpPr>
            <p:cNvPr id="231" name="Rectangle 8"/>
            <p:cNvSpPr/>
            <p:nvPr/>
          </p:nvSpPr>
          <p:spPr>
            <a:xfrm>
              <a:off x="284040" y="6262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9"/>
            <p:cNvSpPr/>
            <p:nvPr/>
          </p:nvSpPr>
          <p:spPr>
            <a:xfrm>
              <a:off x="3025800" y="6262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0"/>
            <p:cNvSpPr/>
            <p:nvPr/>
          </p:nvSpPr>
          <p:spPr>
            <a:xfrm>
              <a:off x="4626000" y="6262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TextBox 11"/>
          <p:cNvSpPr/>
          <p:nvPr/>
        </p:nvSpPr>
        <p:spPr>
          <a:xfrm>
            <a:off x="8205840" y="48020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B14708-5ADC-41B1-B2F3-A2CBF353618F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58F3BB-3518-4A91-BCCF-C6C06FBCFA1A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278" name="Rectangle 8"/>
            <p:cNvSpPr/>
            <p:nvPr/>
          </p:nvSpPr>
          <p:spPr>
            <a:xfrm>
              <a:off x="284040" y="1577880"/>
              <a:ext cx="160020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9"/>
            <p:cNvSpPr/>
            <p:nvPr/>
          </p:nvSpPr>
          <p:spPr>
            <a:xfrm>
              <a:off x="1884240" y="1577880"/>
              <a:ext cx="274320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10"/>
            <p:cNvSpPr/>
            <p:nvPr/>
          </p:nvSpPr>
          <p:spPr>
            <a:xfrm>
              <a:off x="4626000" y="1577880"/>
              <a:ext cx="423396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B78B89-6F53-4523-995C-24617E04F3DD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2F9D95-29DE-4A53-B3D3-C50F401F91DF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324" name="Rectangle 8"/>
            <p:cNvSpPr/>
            <p:nvPr/>
          </p:nvSpPr>
          <p:spPr>
            <a:xfrm>
              <a:off x="284040" y="1577880"/>
              <a:ext cx="160020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9"/>
            <p:cNvSpPr/>
            <p:nvPr/>
          </p:nvSpPr>
          <p:spPr>
            <a:xfrm>
              <a:off x="1884240" y="1577880"/>
              <a:ext cx="274320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0"/>
            <p:cNvSpPr/>
            <p:nvPr/>
          </p:nvSpPr>
          <p:spPr>
            <a:xfrm>
              <a:off x="4626000" y="1577880"/>
              <a:ext cx="423396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49691C-64DA-46D6-BA26-D8B79B3898B8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22FE4A-902B-4C73-B39F-99C8CDB9E6DA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370" name="Rectangle 8"/>
            <p:cNvSpPr/>
            <p:nvPr/>
          </p:nvSpPr>
          <p:spPr>
            <a:xfrm>
              <a:off x="284040" y="1577880"/>
              <a:ext cx="160020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9"/>
            <p:cNvSpPr/>
            <p:nvPr/>
          </p:nvSpPr>
          <p:spPr>
            <a:xfrm>
              <a:off x="1884240" y="1577880"/>
              <a:ext cx="274320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0"/>
            <p:cNvSpPr/>
            <p:nvPr/>
          </p:nvSpPr>
          <p:spPr>
            <a:xfrm>
              <a:off x="4626000" y="1577880"/>
              <a:ext cx="423396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D494DD-4E79-4910-B4F0-761B4E0502DB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75FA8D-40ED-4A8E-8B04-1309156FB9D0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huhcorp.com/" TargetMode="External"/><Relationship Id="rId2" Type="http://schemas.openxmlformats.org/officeDocument/2006/relationships/hyperlink" Target="http://www.benrik.co.uk/content/books.asp" TargetMode="External"/><Relationship Id="rId3" Type="http://schemas.openxmlformats.org/officeDocument/2006/relationships/hyperlink" Target="http://www.freewayblogger.com/archive.htm" TargetMode="External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adbusters.org/blogs/adbusters-blog/occupywallstreet.html" TargetMode="External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20480" y="448920"/>
            <a:ext cx="7808760" cy="108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4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CT 300: Critical Analysis of Media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75920" y="1401480"/>
            <a:ext cx="7753320" cy="61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lass 6: Media as Agent of Change: Persuasion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ulture Jamming and Online Activism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Examples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00"/>
                </a:solidFill>
                <a:uFillTx/>
                <a:latin typeface="Calibri"/>
                <a:hlinkClick r:id="rId1"/>
              </a:rPr>
              <a:t>http://www.huhcorp.com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00"/>
                </a:solidFill>
                <a:uFillTx/>
                <a:latin typeface="Calibri"/>
                <a:hlinkClick r:id="rId2"/>
              </a:rPr>
              <a:t>http://www.benrik.co.uk/content/books.asp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00"/>
                </a:solidFill>
                <a:uFillTx/>
                <a:latin typeface="Calibri"/>
                <a:hlinkClick r:id="rId3"/>
              </a:rPr>
              <a:t>http://www.freewayblogger.com/archive.htm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Adbusters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nded in 1989 – anti-consumerism, pro-ecology, pro-health focu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rticles but with culture jamming in place of traditional advertisemen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dvocacy efforts such as “Buy Nothing Day” – response to “Black Friday” in America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Now 120K reach, mass market availabilit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ritique of Jamming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oo hipster for its own good?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Is it possible to </a:t>
            </a:r>
            <a:r>
              <a:rPr b="0" lang="ja-JP" sz="2800" spc="-1" strike="noStrike">
                <a:solidFill>
                  <a:srgbClr val="262626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downshift</a:t>
            </a:r>
            <a:r>
              <a:rPr b="0" lang="ja-JP" sz="2800" spc="-1" strike="noStrike">
                <a:solidFill>
                  <a:srgbClr val="262626"/>
                </a:solidFill>
                <a:latin typeface="Calibri"/>
              </a:rPr>
              <a:t>”</a:t>
            </a: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 entirely?  Solutions seem at times a bit absolutis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Does it become what it refuses? (e.g., Adbusters production/distribution, shoes)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rbel"/>
              </a:rPr>
              <a:t>Transition to Activism: Adbusters and #OWS</a:t>
            </a: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1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dbusters and #occupywallstreet/#OW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00"/>
                </a:solidFill>
                <a:uFillTx/>
                <a:latin typeface="Calibri"/>
                <a:hlinkClick r:id="rId1"/>
              </a:rPr>
              <a:t>http://www.adbusters.org/blogs/adbusters-blog/occupywallstreet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- founding post in July for September protes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 “Tahrir Moment”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“</a:t>
            </a: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Anonymous”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 comic connection…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Very loose and distributed network, often through unarchived highly anarchic spaces such as 4chan/7cha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Generally concerned with privacy, censorship, freedom of access effor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doing it for the lulz?”  Somewhat – often contributes to serious efforts such as #OW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Wikileaks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ncerned with freedom of information, publication of state and other secret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itially a wiki-based foundation, but with central edit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nlike Anonymous, a very central (and controversial) figurehead in Julian Assange – leading to his (valid?) arrest and splits in org (e.g., OpenLeaks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rbel"/>
              </a:rPr>
              <a:t>Internet Activism and the “Arab Spring”</a:t>
            </a: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cent events in Middle East fueled in part by revelations in Wikileaks acknowledging understood regime corruptio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onymous’ support for Iranian green revolution and others – opening up technical channels for communication when central authorities/services shut dow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 “Twitter revolution”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In-class assignmen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Pick any culture jamming effor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hat message (if any) is being advanced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hat media are being used to relay this message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s it successful?  Why/why not?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hat would you do differently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Can be handed in by next week’s class if required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Administration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Groups – get in them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deas for project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ic creation questions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Social Influence and Persuasion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hat makes for an effective pitch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hat fails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oncepts in Persuasion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entral and peripheral process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use of heuristics in processing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atitudes of acceptance and rejectio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ource/Receiver characteristics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entral/Peripheral Attention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entral processing – things we pay attention to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Peripheral processing – “noise” in the media atmosphere that nevertheless is effectiv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Branding and peripheral processing – why does Coke, McDonalds, etc. advertise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Iconography as Heuristic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mplifying message to specific iconographic symbols helpful especially for peripheral process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conographic figures in social movements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Latitudes of Acceptance/Rejection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atitude of acceptance – a range of beliefs that an individual is willing to receive message for (rejection – the opposite – what people will reject wholesale even with evidence to contrary…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cceptance/rejection and controversial messaging – how to swing people to your sid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Source/Receiver Characteristics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ome sources come with predetermined ideas/biases of their veracit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ome groups of people are more amenable to receiving certain kinds of messag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9/11 Truthers as example – sought out qualified people to defend theories of 9/11 being an inside job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las, many such people also have connections to other conspiratorial plots (e.g., JFK/RFK, Illuminati, UFOs – etc.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ulture Jamming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reation of media products that run counter to mainstream/dominant media but use tools/genres of that media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ften done for political/advocacy purposes; but sometimes done for artistic or anarchistic reas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04:03:30Z</dcterms:created>
  <dc:creator>Sheridan College</dc:creator>
  <dc:description/>
  <dc:language>en-US</dc:language>
  <cp:lastModifiedBy>Sheridan College</cp:lastModifiedBy>
  <dcterms:modified xsi:type="dcterms:W3CDTF">2011-10-20T18:51:20Z</dcterms:modified>
  <cp:revision>54</cp:revision>
  <dc:subject/>
  <dc:title>CCT 300: Critical Analysis  of Media</dc:title>
</cp:coreProperties>
</file>